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4AE-CBE3-4B2F-99FC-1534DD86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2DB-FC3C-443A-A104-9CA0336B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3A5-8AA5-4D69-8F16-C8829413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112-27C2-4B1A-B242-2C65AF84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E6D-E2C4-45A5-A494-2D52CED0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33F9-B766-446B-AFAB-59117056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0D1-BD90-41AD-9E1C-905F0317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022-3357-4EED-B230-93C22BB3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030-4730-49EB-B6E7-26C5D1C3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661-DF49-4F3D-8246-9CAEE47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E2E-0670-4390-871F-4DFC8228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D3B-55BF-4F58-8617-A3BD8C71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6A6-11C7-4F6D-92E7-0D66A1091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lcome Back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lling Review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I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o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. becaus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wh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h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b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fri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7-08-27T00:16:01Z</dcterms:modified>
  <cp:revision>4</cp:revision>
  <dc:subject/>
  <dc:title>The Art Lesson Group A</dc:title>
</cp:coreProperties>
</file>